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3DC-28B3-4DA3-81CE-B1B1857E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974-B4DD-4729-9775-5A3721BB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FE4-5100-43D8-8230-34EE62E4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E34-A00B-4439-8247-FC26449E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245F-C299-4D67-B139-A84961DF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C3C4-5098-465F-9472-D834A1F3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0CB8-0B50-48C1-A9E6-5CB721CB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3A6C-ECC7-4ADB-A686-8259025D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0285-A4DE-40EB-B574-593ABABA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CDD8-38D3-4D08-89AD-4988DCCA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C5A7-903D-471F-9A4A-470A11FE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113-A3B8-4691-8216-7AA592FE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AD42-55D1-4483-83B7-FBBF5D8A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BD3B-1736-43AB-9207-E73CDA6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A5FB-7C8D-41E1-992E-A0437921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2437-58FB-4151-A7D2-7FE67721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F9F5-9DB1-4EB3-8CEC-746AF8DF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BA3-313A-42A2-8D73-46B1A61F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A71-A5F5-4191-A825-2B432602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1BD-1BA1-4993-A39C-D9BB9E9A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AAE-0BC4-4892-BE96-8265614F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2F6-AD16-4795-96EB-A91A3541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C08-C7EA-4C26-99F5-333EAD0A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43E-7AC1-44BF-9471-75C7651C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C871-17F1-4588-8B64-368B8134639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8CE4-EC6B-41B9-A63B-C44C1A9BF6A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iki/1959" TargetMode="External"/><Relationship Id="rId2" Type="http://schemas.openxmlformats.org/officeDocument/2006/relationships/hyperlink" Target="http://ro.wikipedia.org/wiki/Genetic&#259;" TargetMode="External"/><Relationship Id="rId3" Type="http://schemas.openxmlformats.org/officeDocument/2006/relationships/hyperlink" Target="http://ro.wikipedia.org/w/index.php?title=J&#233;r&#244;me_Lejeune&amp;action=edit&amp;redlink=1" TargetMode="External"/><Relationship Id="rId4" Type="http://schemas.openxmlformats.org/officeDocument/2006/relationships/hyperlink" Target="http://ro.wikipedia.org/w/index.php?title=J&#233;r&#244;me_Lejeune&amp;action=edit&amp;redlink=1" TargetMode="External"/><Relationship Id="rId5" Type="http://schemas.openxmlformats.org/officeDocument/2006/relationships/hyperlink" Target="http://ro.wikipedia.org/w/index.php?title=J&#233;r&#244;me_Lejeune&amp;action=edit&amp;redlink=1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DN-UL UMAN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Moldovan Horatiu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iceul Teoretic Gheorghe Sincai – Cluj Napoc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DN-UL UM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RIOTIPUL UMAN NO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OMALII CROMOZOMA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TERIAL GENETIC-GENETICA UMAN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LADII EREDITARE UM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VALU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ndromul Dow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În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59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geneticianul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de origine franceză, profesorul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Jérôme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Lejeun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 a descoperit că sindromul Down era cauzat de prezența unui cromozom 21 în plus, rezultând astfel un număr total de 47 de cromozomi în loc de 46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657600" y="3809880"/>
            <a:ext cx="2508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ndromul Turn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Sindromul Turner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este o anomalie cromozomiala care afecteaza persoanele de sex feminin. El apare la 1 din 2500 de nasteri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re deosebire de alte entităţi biologice, omul este o fiinţă biosocială: formarea lui s-a produs în urma unui îndelungat proces de evoluţie biologică, pe de o parte, şi de dezvoltare socială, pe de alta. Părăsind lumea animală, omul a rămas parte a naturii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55:09Z</dcterms:created>
  <dc:creator>Cursant19</dc:creator>
  <dc:description/>
  <dc:language>en-US</dc:language>
  <cp:lastModifiedBy>Cursant19</cp:lastModifiedBy>
  <dcterms:modified xsi:type="dcterms:W3CDTF">2010-08-25T12:12:43Z</dcterms:modified>
  <cp:revision>2</cp:revision>
  <dc:subject/>
  <dc:title>Diapozitivul 1</dc:title>
</cp:coreProperties>
</file>